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8.wmf" ContentType="image/x-wmf"/>
  <Override PartName="/ppt/media/image38.jpeg" ContentType="image/jpeg"/>
  <Override PartName="/ppt/media/image45.png" ContentType="image/png"/>
  <Override PartName="/ppt/media/image44.jpeg" ContentType="image/jpeg"/>
  <Override PartName="/ppt/media/image31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1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41B-3B81-4731-8B1F-97481A88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474-6E76-4E70-BFBD-93E50ED7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6D4-3412-4A73-9BA8-CBC7BEB6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679-4C01-4485-B97B-C205C304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019-127E-477B-B1A0-285E1377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DAA-6B1A-4A31-9560-E97C4E3F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823-35A5-4264-A59D-AD3AC381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865-D39E-475D-A25D-EFC6FEFE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3E5-7936-4EA5-9BA6-086C7136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572-CE43-4BC9-BF31-9D672E6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A33-775F-47B2-92C2-85876AFC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958-2319-40E5-8EF2-C1D4A121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6A5F-70B3-4B62-9956-DB7323A78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26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Local%20Settings/Local%20Settings/Temp/USAcivilwarC.htm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609480"/>
            <a:ext cx="7086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69696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Courier New"/>
              </a:rPr>
              <a:t>The Great Depression</a:t>
            </a:r>
            <a:endParaRPr b="1" lang="en-US" sz="2400" spc="1" strike="noStrike">
              <a:ln w="9360">
                <a:solidFill>
                  <a:srgbClr val="969696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2290680" cy="2857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3124080" cy="224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95680" y="3429000"/>
            <a:ext cx="2489400" cy="3086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553080" y="2438280"/>
            <a:ext cx="2286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y waited in unemployment lines hoping for a job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354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ople in cities would wait in line for bread to bring to their fami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722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me families were forced to relocate because they had no mone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518" t="13264" r="4548" b="13940"/>
          <a:stretch/>
        </p:blipFill>
        <p:spPr>
          <a:xfrm>
            <a:off x="1600200" y="2057400"/>
            <a:ext cx="5715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Impact"/>
              </a:rPr>
              <a:t>“</a:t>
            </a:r>
            <a:r>
              <a:rPr b="1" lang="en-US" sz="6000" spc="-1" strike="noStrike">
                <a:solidFill>
                  <a:srgbClr val="ff0000"/>
                </a:solidFill>
                <a:latin typeface="Impact"/>
              </a:rPr>
              <a:t>Hooverville”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me families were forced to live in shanty tow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grouping of shacks and tents in vacant 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were referred to as “Hooverville” because of President Hoover’s lack of help during the depre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18161" r="0" b="0"/>
          <a:stretch/>
        </p:blipFill>
        <p:spPr>
          <a:xfrm>
            <a:off x="5715000" y="228600"/>
            <a:ext cx="3200400" cy="2705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343400" y="2362320"/>
            <a:ext cx="2971800" cy="2917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629400" y="3809880"/>
            <a:ext cx="2232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4721" b="8182"/>
          <a:stretch/>
        </p:blipFill>
        <p:spPr>
          <a:xfrm>
            <a:off x="609480" y="17524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00200" y="30492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ooverville</a:t>
            </a:r>
            <a:endParaRPr b="0" i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47920" y="304920"/>
            <a:ext cx="6019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Out of the Dust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62120" y="1752480"/>
            <a:ext cx="48006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Impact"/>
              </a:rPr>
              <a:t>The South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Impact"/>
              </a:rPr>
              <a:t>and the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Impact"/>
              </a:rPr>
              <a:t>Dust Bowl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15000" y="2895480"/>
            <a:ext cx="31240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drought in the South lead to dust storms that destroyed crop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76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429000" y="5562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ust Bowl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Impact"/>
              </a:rPr>
              <a:t>The South Was Buri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ops turned to dust=No food to be sent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s bur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elds blown awa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uth in state of emerg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st Bowl the #1 weather crisis of the 20th centu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423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200400" cy="2687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3174840" cy="332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9480" y="2971800"/>
            <a:ext cx="2381400" cy="2971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743200" y="4191120"/>
            <a:ext cx="3124080" cy="2047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867280" y="1523880"/>
            <a:ext cx="29718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Lucida Handwriting"/>
              </a:rPr>
              <a:t>Two Families During the Depres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05320" cy="4952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7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929-1939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dn’t realize the effect it would ha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 money to replenish what was borrow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038480" cy="312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51814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y found being broke humilia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 Black"/>
              </a:rPr>
              <a:t>A Farm Foreclos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610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99"/>
                </a:solidFill>
                <a:latin typeface="Times New Roman"/>
              </a:rPr>
              <a:t>Some families tried to make money by selling useful crafts like baske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58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ff"/>
                </a:solidFill>
                <a:latin typeface="Arial Black"/>
              </a:rPr>
              <a:t>*FDR*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en he was inaugurated unemployment had increased by 7 mill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became the hope for the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or sections (like Harlem) had 50% of the pop. unemplo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stated the “New De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228" t="0" r="8295" b="5352"/>
          <a:stretch/>
        </p:blipFill>
        <p:spPr>
          <a:xfrm>
            <a:off x="455760" y="1600200"/>
            <a:ext cx="356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eople everywhere were effected by the de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t wasn’t till President Roosevelt took over and tried to put the economy back together that people even saw a glimmer of hop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71600" y="1143000"/>
            <a:ext cx="66294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 Kill a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ockingbird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ajor Historical Happenings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33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im Crow La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cottsboro Tr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overing from the Great De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cial Injust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or Sou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2076480" cy="289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91320" y="2057400"/>
            <a:ext cx="3352680" cy="2349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343400" y="4267080"/>
            <a:ext cx="238140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72160" y="5029200"/>
            <a:ext cx="2571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500"/>
                            </p:stCondLst>
                            <p:childTnLst>
                              <p:par>
                                <p:cTn id="4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 Black"/>
              </a:rPr>
              <a:t>Jim Crow La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merican Civil W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states in the South passed anti-African American legislation. These became known as Jim Crow law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laws included segregation i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- Hospi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at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- Water fount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tau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t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states forbid inter-racial marri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934320" y="3733920"/>
            <a:ext cx="1530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Times New Roman"/>
              </a:rPr>
              <a:t>These laws were instituted in 1896 and were not abolished till the late 1950’s (even then still not completely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3276720" cy="1881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9880" y="4495680"/>
            <a:ext cx="2934000" cy="2032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934320" y="2438280"/>
            <a:ext cx="1969920" cy="403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28600" y="3276720"/>
            <a:ext cx="32767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4191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 young African-American men  (13-20) accused of raping 2 white girls in 19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mediately sentenced to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ials went on for nearly 15 years before all the men were dismi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228600"/>
            <a:ext cx="7162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cottsboro Boys Tri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343400" y="1981080"/>
            <a:ext cx="44956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Started on a train bound for Memp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Several white men boarded and picked a fight with the black 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Whites were forced off train by the 12 black men. The white men reported the the black men had raped two white girls on the train to author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They were immediately arrested and tried in front of an all-white ju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e Roaring 20’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ew concept of “credit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were buy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ob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t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 times re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ap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589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e trials caused a huge uproar amongst the black communit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082" t="3282" r="1041" b="10740"/>
          <a:stretch/>
        </p:blipFill>
        <p:spPr>
          <a:xfrm>
            <a:off x="1143000" y="205740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523880" y="228600"/>
            <a:ext cx="6019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rper Lee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3093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Wrote </a:t>
            </a: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To Kill a Mockingbird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in 196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sed the story on her life growing up in Monroeville, Alab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TKAM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was the only novel she ever wr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685800"/>
            <a:ext cx="3917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46483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haracter of “Dill,” Scout and Jem’s playmate in the novel was based upon Lee’s actual neighbor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ruman Cap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pote is famous for amongst other things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 Cold Blo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reakfast at Tiffany’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 has been said that he gave Le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ckingbir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s a gi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0908" t="0" r="0" b="0"/>
          <a:stretch/>
        </p:blipFill>
        <p:spPr>
          <a:xfrm>
            <a:off x="5105520" y="380880"/>
            <a:ext cx="3733560" cy="2732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638680" y="3352680"/>
            <a:ext cx="3048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1962 the novel was turned into a film starring Gregory Pe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 received a humanitarian award and several Academy Award nomin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29200" y="1066680"/>
            <a:ext cx="3546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371600" y="1600200"/>
            <a:ext cx="6248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Why was this ba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dit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ple didn’t really have the money they were spe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U.S. was a major credit loaner to other nations in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y of these nations could not pay us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40200" y="1676520"/>
            <a:ext cx="35305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Impact"/>
              </a:rPr>
              <a:t>The Stock Mark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ople bought stocks on 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</a:rPr>
              <a:t>margi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a stock is $100 you can pay $10 now and the rest later when the stock r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ocks f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 the person has less than $100 and no money to pay 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5049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99"/>
                </a:solidFill>
                <a:latin typeface="Impact"/>
              </a:rPr>
              <a:t>And then…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304920"/>
            <a:ext cx="55627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th people panicking about their money investors tried to sell their stoc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ds to a huge decline in st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cks were worthless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ople who bought on “margins” now could not p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estors were average people that were now b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047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343400" y="17521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rbert Hoover was president at the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ilosophy: We’ll make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He Did: N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oor were looking for help and no ideas on how to correct or help were co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600200" y="228600"/>
            <a:ext cx="5867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President Hoover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0160" y="1676520"/>
            <a:ext cx="4238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Farmers were already feeling th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ices of crops went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y farms fore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eople could not afford luxu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ctories shut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es went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anks could not pay out 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eople could not pay their ta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hools shut down due to lack of fu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Many families became homeless and had to live in shan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19320" y="228600"/>
            <a:ext cx="6914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8080"/>
                </a:solidFill>
                <a:latin typeface="Courier New"/>
              </a:rPr>
              <a:t>What about the people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808080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541680" cy="435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4086" b="6730"/>
          <a:stretch/>
        </p:blipFill>
        <p:spPr>
          <a:xfrm>
            <a:off x="1981080" y="3429000"/>
            <a:ext cx="3581640" cy="317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4102200" cy="2946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410080" y="3962520"/>
            <a:ext cx="37339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gie</cp:lastModifiedBy>
  <dcterms:modified xsi:type="dcterms:W3CDTF">2009-01-12T05:11:58Z</dcterms:modified>
  <cp:revision>17</cp:revision>
  <dc:subject/>
  <dc:title>PowerPoint Presentation</dc:title>
</cp:coreProperties>
</file>